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9E6-8733-447A-BA36-44C952EE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562-FFCB-4657-AA56-D6F773F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76D-A77B-4F18-911A-A8010B1D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4E0-0B11-42DB-97D6-13422395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E55-0D1A-4ADC-98A2-0D08AD85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B9F-A189-40EA-A1B2-22853F67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259-4A05-44A1-99CF-FE8BE7B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EF5-D03B-4D77-BC3A-8281F5C7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694-A1DB-4C07-B255-6C3DE9B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526-E9FB-4F50-A98C-D6426F4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60C-AF9A-4885-99FB-2154A6C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1E2-AF8C-4EAB-A1CA-AAF89C5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6A0-F972-48D2-9490-C1DF11E2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a.gov/air/ca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adiangeographic.com/atlas/themes.aspx?id=SHIELD&amp;sub=SHIELD_FEATURES_DELUGE&amp;lang=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04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ebekah Elm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ir-pollution1"/>
          <p:cNvPicPr/>
          <p:nvPr/>
        </p:nvPicPr>
        <p:blipFill>
          <a:blip r:embed="rId1"/>
          <a:stretch/>
        </p:blipFill>
        <p:spPr>
          <a:xfrm rot="20739000">
            <a:off x="380880" y="609480"/>
            <a:ext cx="3524400" cy="231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ir_pollution_pl_600fix"/>
          <p:cNvPicPr/>
          <p:nvPr/>
        </p:nvPicPr>
        <p:blipFill>
          <a:blip r:embed="rId2"/>
          <a:stretch/>
        </p:blipFill>
        <p:spPr>
          <a:xfrm rot="997200">
            <a:off x="5638320" y="3733560"/>
            <a:ext cx="3081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se are the most polluted places in the world since they are industrialized and have a careless attitude towards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polluted places in the world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erzin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we, Za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a, Dominican Re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3733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dnaya Pristan and Dalnegor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uu-Suu, Kyrgy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ecojunk.wordpress.com"/>
          <p:cNvPicPr/>
          <p:nvPr/>
        </p:nvPicPr>
        <p:blipFill>
          <a:blip r:embed="rId1"/>
          <a:stretch/>
        </p:blipFill>
        <p:spPr>
          <a:xfrm rot="459600">
            <a:off x="5867280" y="4495320"/>
            <a:ext cx="2990880" cy="1947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248520" y="6461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ilsk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Blacksmith Institute"/>
          <p:cNvPicPr/>
          <p:nvPr/>
        </p:nvPicPr>
        <p:blipFill>
          <a:blip r:embed="rId2"/>
          <a:stretch/>
        </p:blipFill>
        <p:spPr>
          <a:xfrm rot="21069000">
            <a:off x="228600" y="4419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83808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ipet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lacksmith Institute"/>
          <p:cNvPicPr/>
          <p:nvPr/>
        </p:nvPicPr>
        <p:blipFill>
          <a:blip r:embed="rId3"/>
          <a:stretch/>
        </p:blipFill>
        <p:spPr>
          <a:xfrm rot="259200">
            <a:off x="2971800" y="3657600"/>
            <a:ext cx="2914560" cy="1933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32004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rova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6 Chernobyl Ukraine had a nuclear disaster which left the area uninhabi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fen China, air quality is poor due to the burning of c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op-10-list.org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27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ccpurpleclass.blogspot.com"/>
          <p:cNvPicPr/>
          <p:nvPr/>
        </p:nvPicPr>
        <p:blipFill>
          <a:blip r:embed="rId2"/>
          <a:stretch/>
        </p:blipFill>
        <p:spPr>
          <a:xfrm>
            <a:off x="1143000" y="3429000"/>
            <a:ext cx="2530440" cy="294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most polluted c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kersfield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, 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no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mingham,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oit,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mog"/>
          <p:cNvPicPr/>
          <p:nvPr/>
        </p:nvPicPr>
        <p:blipFill>
          <a:blip r:embed="rId1"/>
          <a:stretch/>
        </p:blipFill>
        <p:spPr>
          <a:xfrm>
            <a:off x="4343400" y="22096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85800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,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concern in the eastern half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industrialized and urbanized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ed area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ARAIN1"/>
          <p:cNvPicPr/>
          <p:nvPr/>
        </p:nvPicPr>
        <p:blipFill>
          <a:blip r:embed="rId1"/>
          <a:stretch/>
        </p:blipFill>
        <p:spPr>
          <a:xfrm rot="891600">
            <a:off x="3596760" y="2080800"/>
            <a:ext cx="510552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reas affe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section of Canada (Toronto-Hamilto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danavia (Sweden, Norway, Fin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(India and 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6a0105371bb32c970b0120a4f52856970b-750wi"/>
          <p:cNvPicPr/>
          <p:nvPr/>
        </p:nvPicPr>
        <p:blipFill>
          <a:blip r:embed="rId1"/>
          <a:stretch/>
        </p:blipFill>
        <p:spPr>
          <a:xfrm rot="825000">
            <a:off x="5638680" y="4343040"/>
            <a:ext cx="3087720" cy="217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cid_Rain_in_Europe,_1993"/>
          <p:cNvPicPr/>
          <p:nvPr/>
        </p:nvPicPr>
        <p:blipFill>
          <a:blip r:embed="rId2"/>
          <a:stretch/>
        </p:blipFill>
        <p:spPr>
          <a:xfrm rot="20625600">
            <a:off x="3962520" y="1295280"/>
            <a:ext cx="3809880" cy="335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3809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roblem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tion in eyes, nose, and thr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c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80920" y="838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respirato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 to brain, nerves, liver or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ir_pollution"/>
          <p:cNvPicPr/>
          <p:nvPr/>
        </p:nvPicPr>
        <p:blipFill>
          <a:blip r:embed="rId1"/>
          <a:stretch/>
        </p:blipFill>
        <p:spPr>
          <a:xfrm rot="21261000">
            <a:off x="533160" y="403848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oilpollutionmask"/>
          <p:cNvPicPr/>
          <p:nvPr/>
        </p:nvPicPr>
        <p:blipFill>
          <a:blip r:embed="rId2"/>
          <a:stretch/>
        </p:blipFill>
        <p:spPr>
          <a:xfrm rot="393600">
            <a:off x="5486400" y="4419720"/>
            <a:ext cx="3290760" cy="2192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id Rai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vironment.nationalgeographic.com/environment/global-warming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acid-rain-overview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id Rain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ngelfire.com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angelfire.com/ks3/acidrainreport/acid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ir Po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.wikipedia.org/wiki/Air_pollution#Pollutants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 li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Clean Air Act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air/caa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od Up High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3 Sept. 2009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oar/oaqps/gooduphigh/good.html#1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ow can air pollution hurt my health?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SI 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2010. &lt;http://www.lbl.gov/Education/ELSI/Frames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pollution-health-effects-f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Indoor and Outdoor Air Pol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ELS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lbl.gov/Education/ELSI/pollution-main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articulate Matter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5 Jan. 2009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Web. 18 Feb. 2010. &lt;http://www.epa.gov/oar/particlepollution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ittsburgh and Los Angeles the Most Polluted US Citie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ty May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7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May 2009. Web. 18 Feb. 2010. &lt;http://www.citymayors.com/environment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polluted_uscitie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econdary Pollutant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Ra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cience.jrank.org/pages/6028/Secondary-Pollutant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lfe, Elizabeth. "The 10 Most Polluted Cities in the World.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yiamgreen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09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ayiamgreen.com/blog/2009/09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the-10-most-polluted-cities-in-the-world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ds, Sable. "What Region of the United States Is Most Affected by Acid Rain?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ho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10. Web. 18 Feb. 2010. &lt;http://www.ehow.com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facts_4965252_united-states-affected-acid-rain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oxic chemicals into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natur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 in living th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primary, secondary, and particulate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actory"/>
          <p:cNvPicPr/>
          <p:nvPr/>
        </p:nvPicPr>
        <p:blipFill>
          <a:blip r:embed="rId1"/>
          <a:stretch/>
        </p:blipFill>
        <p:spPr>
          <a:xfrm>
            <a:off x="7086600" y="5392800"/>
            <a:ext cx="20574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143000"/>
            <a:ext cx="6172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ission of substances directly into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-release 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-carbon mon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-sulfur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raffic"/>
          <p:cNvPicPr/>
          <p:nvPr/>
        </p:nvPicPr>
        <p:blipFill>
          <a:blip r:embed="rId1"/>
          <a:stretch/>
        </p:blipFill>
        <p:spPr>
          <a:xfrm rot="444000">
            <a:off x="5562720" y="4266720"/>
            <a:ext cx="3276360" cy="2264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Pollution-From-Factory"/>
          <p:cNvPicPr/>
          <p:nvPr/>
        </p:nvPicPr>
        <p:blipFill>
          <a:blip r:embed="rId2"/>
          <a:stretch/>
        </p:blipFill>
        <p:spPr>
          <a:xfrm rot="20512200">
            <a:off x="228600" y="1676520"/>
            <a:ext cx="2514600" cy="21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volcanic-ash-2"/>
          <p:cNvPicPr/>
          <p:nvPr/>
        </p:nvPicPr>
        <p:blipFill>
          <a:blip r:embed="rId3"/>
          <a:stretch/>
        </p:blipFill>
        <p:spPr>
          <a:xfrm rot="1036200">
            <a:off x="990360" y="403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mitted directly to the air, water, o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primary pollutants react in the atmosp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ynthesized in the environmen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such as nitroge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ted chemicals such as ozone (gas &amp; strong oxid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ixture of small particles and liquid dropl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particle pol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ble coarse p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hp_gobdrop"/>
          <p:cNvPicPr/>
          <p:nvPr/>
        </p:nvPicPr>
        <p:blipFill>
          <a:blip r:embed="rId1"/>
          <a:stretch/>
        </p:blipFill>
        <p:spPr>
          <a:xfrm rot="1492800">
            <a:off x="5867280" y="2209320"/>
            <a:ext cx="23637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zone is a gas that helps protect Earth from UV-Rad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substance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am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sol Propell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zone - Too  Much Here Too Little There"/>
          <p:cNvPicPr/>
          <p:nvPr/>
        </p:nvPicPr>
        <p:blipFill>
          <a:blip r:embed="rId1"/>
          <a:stretch/>
        </p:blipFill>
        <p:spPr>
          <a:xfrm rot="675000">
            <a:off x="4800600" y="2971440"/>
            <a:ext cx="38289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52280" y="220968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orm of precipitation with high levels of nitric and sulfur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occurs in the form of snow and f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ning of fossil 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oline engines (c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ting veg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upting volcan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Rain effec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water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mages soil – decreas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mages forests /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ns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adiangeographic.com/atlas/themes.aspx?id=SHIELD&amp;sub=SHIELD_FEATURES_DELUGE&amp;lang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Photo: Spruce forest damaged by acid rain, Poland"/>
          <p:cNvPicPr/>
          <p:nvPr/>
        </p:nvPicPr>
        <p:blipFill>
          <a:blip r:embed="rId2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_acid_rain"/>
          <p:cNvPicPr/>
          <p:nvPr/>
        </p:nvPicPr>
        <p:blipFill>
          <a:blip r:embed="rId3"/>
          <a:stretch/>
        </p:blipFill>
        <p:spPr>
          <a:xfrm rot="1625400">
            <a:off x="6597720" y="339408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4"/>
          <a:stretch/>
        </p:blipFill>
        <p:spPr>
          <a:xfrm>
            <a:off x="6324480" y="126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cid_rain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ean Air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law designed to protect, improve, and regulate the n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i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eated in 197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tratospheric ozone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public well-b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lean-air-act"/>
          <p:cNvPicPr/>
          <p:nvPr/>
        </p:nvPicPr>
        <p:blipFill>
          <a:blip r:embed="rId1"/>
          <a:stretch/>
        </p:blipFill>
        <p:spPr>
          <a:xfrm rot="20930400">
            <a:off x="5410080" y="1295280"/>
            <a:ext cx="3467160" cy="231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0829"/>
          <p:cNvPicPr/>
          <p:nvPr/>
        </p:nvPicPr>
        <p:blipFill>
          <a:blip r:embed="rId2"/>
          <a:stretch/>
        </p:blipFill>
        <p:spPr>
          <a:xfrm rot="1122600">
            <a:off x="5486400" y="3580920"/>
            <a:ext cx="312408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18:04Z</dcterms:created>
  <dc:creator>sasd</dc:creator>
  <dc:description/>
  <dc:language>en-US</dc:language>
  <cp:lastModifiedBy>dhakim</cp:lastModifiedBy>
  <dcterms:modified xsi:type="dcterms:W3CDTF">2012-03-28T13:38:51Z</dcterms:modified>
  <cp:revision>41</cp:revision>
  <dc:subject/>
  <dc:title>Air Pollution</dc:title>
</cp:coreProperties>
</file>